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02224"/>
        <c:axId val="82163306"/>
      </c:barChart>
      <c:catAx>
        <c:axId val="96202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63306"/>
        <c:crosses val="autoZero"/>
        <c:auto val="1"/>
        <c:lblAlgn val="ctr"/>
        <c:lblOffset val="100"/>
        <c:noMultiLvlLbl val="0"/>
      </c:catAx>
      <c:valAx>
        <c:axId val="82163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2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BCD-F911-44BD-964D-F5B21F99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FAB-F3AC-49E5-A052-7EB9FF2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503-9AEB-4F7D-B35F-5E4578A2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584-5DB5-4E4F-A079-9D95750D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874-CF4C-4E9A-9932-96FB29B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65D-FF6D-4650-B751-413CCD4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CC0-C02D-4DE9-9D0D-016A5A1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E19-63F6-4822-BDE4-1C61A97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B5E-95D7-450E-A99A-C0B0C50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66C-FED6-44AD-8112-11815FD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B95-6E7C-45A1-8CB5-879ACB2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0FC-A588-426D-9619-BD08A04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A540-1893-4CFA-8E02-542954F306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