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918492"/>
        <c:axId val="47592081"/>
      </c:barChart>
      <c:catAx>
        <c:axId val="57918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92081"/>
        <c:crosses val="autoZero"/>
        <c:auto val="1"/>
        <c:lblAlgn val="ctr"/>
        <c:lblOffset val="100"/>
        <c:noMultiLvlLbl val="0"/>
      </c:catAx>
      <c:valAx>
        <c:axId val="475920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18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303-6A46-4C19-AE38-D33872C8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136-EC92-41DC-841E-182D08ED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710-6A09-4C82-BB67-1F79A64E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59C-94E9-467C-8B51-7ADCB525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521-68A7-427E-B5E2-EF188D02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AE2-6FEC-420D-B022-F436ED3C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C3E-9799-4B98-AEB4-420B74CB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C16-CAAF-4C51-A237-ED3D7E0E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C03-CEC0-4F92-8DD6-8720B222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C96-8864-45C2-9E27-648DACEB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EFD-E355-498E-B551-0B93DAB9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F30-62DF-45C4-91C1-97E8CDE8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4B844-E164-43AA-809D-CD9DD00372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