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77586"/>
        <c:axId val="95591229"/>
      </c:barChart>
      <c:catAx>
        <c:axId val="86977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91229"/>
        <c:crosses val="autoZero"/>
        <c:auto val="1"/>
        <c:lblAlgn val="ctr"/>
        <c:lblOffset val="100"/>
        <c:noMultiLvlLbl val="0"/>
      </c:catAx>
      <c:valAx>
        <c:axId val="95591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77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E4B-8DB3-440A-B777-03060692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8D94-C95E-42BC-AE4A-F2B69EF2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072-C64A-42F9-BD17-4DA7A166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701-4BFD-477C-80F7-185CCB68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E91-975D-4ECA-B72B-8A5AEAB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D06-C52B-4BCE-9848-93153061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0BD-4081-4A3E-8427-C6B13F1F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DC2-0736-4890-A214-E4365BE9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1DF7-A5A3-4BF0-892C-FBB5CD6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22D-CBD1-4B42-A857-A60C8F1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B8D-9C8A-4E47-9CA9-3B5ACA5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DAD-2A8D-428D-83EA-C1D662D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8A18F-491B-4FFC-A052-5D6D9AD215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