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407245"/>
        <c:axId val="99490188"/>
      </c:barChart>
      <c:catAx>
        <c:axId val="13407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90188"/>
        <c:crosses val="autoZero"/>
        <c:auto val="1"/>
        <c:lblAlgn val="ctr"/>
        <c:lblOffset val="100"/>
        <c:noMultiLvlLbl val="0"/>
      </c:catAx>
      <c:valAx>
        <c:axId val="99490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07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90C-2BE3-4EEA-8A42-1E2DD083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4744-11C8-479C-881A-0199058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9EA-2627-48CB-B26F-949D3585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D269-6CBD-4DE1-96D0-46905904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888-F66F-4F1F-9F8A-4BBF7A38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13DD-6774-4794-8ED3-32336C40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127-A01C-41C0-A58B-87DFD7B0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331-874D-4989-97ED-FD2B5F6C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BC9-E1CD-4A7F-9AFB-C3E4647B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858-AF79-4044-B023-65BA516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FA5-CA02-402D-BCF9-6CA1F18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F14-55A0-45AB-9912-82F34BD5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9E5C7-30FE-4DA6-BBF2-9BF86AA3A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