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72858"/>
        <c:axId val="92184986"/>
      </c:barChart>
      <c:catAx>
        <c:axId val="96972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84986"/>
        <c:crosses val="autoZero"/>
        <c:auto val="1"/>
        <c:lblAlgn val="ctr"/>
        <c:lblOffset val="100"/>
        <c:noMultiLvlLbl val="0"/>
      </c:catAx>
      <c:valAx>
        <c:axId val="92184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2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88C-52ED-44FF-A7D1-F575BB8B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60A-669D-4CD6-A1A4-5A9391D5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31C-3068-41EC-93F0-7DC0F8B6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096-2C10-45A0-991C-A11AACC5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50B-3B33-477D-9246-6289463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A2D-A575-4AD3-B49F-773B3F1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99C-D8EA-4E2B-A012-0E963DE2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278-0F2A-46D3-85C0-75B186C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7A6-3DE7-4B62-A1A5-CB040F6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C30-803C-4B07-BB71-B7FCD36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5F3-E49D-4860-A3DB-B743708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451-2344-45F6-8C55-0E112FC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CB205-60CA-4042-8993-F24915A0D4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