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06215"/>
        <c:axId val="84758744"/>
      </c:barChart>
      <c:catAx>
        <c:axId val="83906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58744"/>
        <c:crosses val="autoZero"/>
        <c:auto val="1"/>
        <c:lblAlgn val="ctr"/>
        <c:lblOffset val="100"/>
        <c:noMultiLvlLbl val="0"/>
      </c:catAx>
      <c:valAx>
        <c:axId val="84758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06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D71-2FC0-4E3A-BA82-62E14A18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596-90FF-4BE7-BB87-D4C69CEB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D9D-3F70-460A-8585-4DC71D14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58F-E534-4E4C-986F-E9081575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5CA-A14E-4840-A32B-3BF7246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A07-14D4-43F7-BADC-485D7D4D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D7C-C7CD-4030-89B8-C7E1BEC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803-210F-4927-801A-72D34514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D8E-FD59-4D16-8245-7CEA800D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285-BC29-4C40-ABD2-C7ED0095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109-8B90-4621-BD60-EBB2627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0C3-6BD0-4A23-9EE4-C393B2FE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FB147-654D-4C76-A181-F8427C58E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