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46192"/>
        <c:axId val="53400179"/>
      </c:barChart>
      <c:catAx>
        <c:axId val="715461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00179"/>
        <c:crosses val="autoZero"/>
        <c:auto val="1"/>
        <c:lblAlgn val="ctr"/>
        <c:lblOffset val="100"/>
        <c:noMultiLvlLbl val="0"/>
      </c:catAx>
      <c:valAx>
        <c:axId val="53400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461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E0B-C3D3-48FA-B937-9F4E6223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694-4197-4F5A-AB1C-F7CEF8BF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761-7E11-463E-957B-C805B21D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7C8-21EC-43CD-865E-A4D9773C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505-D798-4648-922D-2625588C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4D5D-C25C-4F1E-9A12-DB43C11E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0926-77FC-4373-AF93-6F86D641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D39-1763-4683-B1FF-E917F82D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C4DC-9E39-4A6A-AFB2-7E58D3C9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AA2-129B-45C9-B0FE-CC85AEB3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CFF2-244B-4390-A4CC-08F612EF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5BA-DBA2-43FE-92E7-E88AE352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68099-5DE2-4E47-8884-AC49F63206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