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54188"/>
        <c:axId val="56436332"/>
      </c:barChart>
      <c:catAx>
        <c:axId val="523541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36332"/>
        <c:crosses val="autoZero"/>
        <c:auto val="1"/>
        <c:lblAlgn val="ctr"/>
        <c:lblOffset val="100"/>
        <c:noMultiLvlLbl val="0"/>
      </c:catAx>
      <c:valAx>
        <c:axId val="56436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541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F11-E756-4679-AB37-541B241E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27C-B79C-499C-89E1-28B6B17E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6F6-CC01-46C4-8468-99F8A013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AC6-9079-4CD7-B0F4-D956F14C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0BC8-328C-4F85-9C55-705341AD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4A56-DA32-4A07-99D4-568A3064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579-F7CB-4195-B8D0-CEFB62E7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D754-A3DE-4F9C-8392-E5A516DB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CF2-0156-4EED-8097-D764B4AC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B97-3C01-4E2E-A4D4-6F956116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C8D-0F98-4ECE-83FE-6921F126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A7EC-37B2-48C4-A04E-CE7F916A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D35EF-3A25-4B98-8AF0-68DD8528F6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