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86866"/>
        <c:axId val="99798216"/>
      </c:barChart>
      <c:catAx>
        <c:axId val="88186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98216"/>
        <c:crosses val="autoZero"/>
        <c:auto val="1"/>
        <c:lblAlgn val="ctr"/>
        <c:lblOffset val="100"/>
        <c:noMultiLvlLbl val="0"/>
      </c:catAx>
      <c:valAx>
        <c:axId val="99798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86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D32-11D2-47CD-ADEC-DA896F36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161-4D94-4B6E-BD3B-26DED748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415-B265-4917-993A-0F38F4CF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ACC-CCDF-40B9-BA98-20F37DDA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AE9-D1FA-4D10-9938-9A64EDE1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3A1-D24F-4D49-B0A1-F3AE10D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8DE-03F8-4541-A692-ACF99703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BA1-86BC-46F1-9551-9DE91973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2ED-5A34-4D9C-8AE1-2B1BCB1C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EA6-FAF8-48EB-AF15-1E007CA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255-86B2-4D8E-AECF-E524C4C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5A7-3ED1-43DF-8B4C-A8E696EE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61394-EA39-454B-8D5D-612388C98A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