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04108"/>
        <c:axId val="8123470"/>
      </c:barChart>
      <c:catAx>
        <c:axId val="95204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3470"/>
        <c:crosses val="autoZero"/>
        <c:auto val="1"/>
        <c:lblAlgn val="ctr"/>
        <c:lblOffset val="100"/>
        <c:noMultiLvlLbl val="0"/>
      </c:catAx>
      <c:valAx>
        <c:axId val="8123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04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4E2-4B9C-47F9-98FE-E380052C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C3D-00DF-42CE-90BF-B19E322E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B37-198D-479F-BF3A-E919886A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7DA-3523-4A2D-94DD-92878F14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E49-8CA3-4CC3-AD68-0ABBBE45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099-BD7F-48DE-A1E3-3311AF4D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00B-B346-40FC-9600-17EBAEDD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21A-6E5F-4D19-A212-C5824C98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28A-3000-4B31-9336-23C4CD2D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2A6-3EFD-4BBD-B885-73D1BEE6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6E6-EF53-4253-9078-3D9052E5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765-FF04-4A8F-BC59-0A4E7F91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AC83F-8101-44C7-B707-36B845CB92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