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83719"/>
        <c:axId val="20790252"/>
      </c:barChart>
      <c:catAx>
        <c:axId val="63383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90252"/>
        <c:crosses val="autoZero"/>
        <c:auto val="1"/>
        <c:lblAlgn val="ctr"/>
        <c:lblOffset val="100"/>
        <c:noMultiLvlLbl val="0"/>
      </c:catAx>
      <c:valAx>
        <c:axId val="20790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83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42AB-426E-430B-AB45-06672260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0945-BE42-42FD-AC89-918A5FD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907-0FD9-4983-8937-59A1826D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DDA-100C-48C6-BC16-4B7E1E574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D38-5865-4E49-ABA2-9FE3EDEA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FA9A-F963-4F80-9ABD-72780CB7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A87-F1AE-492B-888D-FE654666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944-5DC9-4B59-B9FE-88BC9684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9590-4894-401F-9F83-B5FE0978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06E-F510-474E-B74C-268BCA00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561-7432-425F-8DE9-07E06EFF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6D0A-21EA-470D-B3B2-39AB2522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717A7-1E58-415C-85DC-9D9CB3E5CF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