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5690"/>
        <c:axId val="43843038"/>
      </c:barChart>
      <c:catAx>
        <c:axId val="3005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43038"/>
        <c:crosses val="autoZero"/>
        <c:auto val="1"/>
        <c:lblAlgn val="ctr"/>
        <c:lblOffset val="100"/>
        <c:noMultiLvlLbl val="0"/>
      </c:catAx>
      <c:valAx>
        <c:axId val="43843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5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BE1-1864-4669-904A-594DF20F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792-11DF-4DEB-9EF8-1ECA87D5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FA0-460E-4356-8CBF-9D882D60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66B-FD26-469D-9686-50BE97B9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7D0-45B5-445F-9C13-E3C92FD5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C4F-DB5C-4B92-80EE-7B7A733C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99C-DBB4-44F4-9311-966DBCFF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96D-24BE-4270-AE91-866A3AD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6AF-EF82-4B09-8505-9CA13FA5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C81-FF1F-4475-BB0C-1740D48B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74D-5B69-4D0D-86FB-680BBAB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7F0-F05C-4A0C-A766-F3342AC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9A84-28C3-4E32-A7AE-468569BD7E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