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6375"/>
        <c:axId val="84142521"/>
      </c:barChart>
      <c:catAx>
        <c:axId val="48263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42521"/>
        <c:crosses val="autoZero"/>
        <c:auto val="1"/>
        <c:lblAlgn val="ctr"/>
        <c:lblOffset val="100"/>
        <c:noMultiLvlLbl val="0"/>
      </c:catAx>
      <c:valAx>
        <c:axId val="841425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63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232-1A76-4EBF-84E0-D07299FA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EAE1-9609-491D-96A5-FA31FE16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7D6-1CE8-4B6C-8017-5EEC3483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597-4363-40BA-9957-4EEFF852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4BFC-5195-4CF9-B3A1-27E79B68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6C11-6DB0-497D-BB75-635A2BE1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B0E-9DE8-486D-82D8-A13A91D0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674A-C2FB-484B-84FF-B327B729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D08-A511-48D3-A4B6-4613914C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DEB0-BF51-4D7F-912C-19BBE8AC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3529-D644-44F2-858B-076F98B4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C04-1E06-4F8C-9EBB-587B9938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D41F8-B25B-40EE-9AED-345A61FCAA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