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5140166"/>
        <c:axId val="53092543"/>
      </c:barChart>
      <c:catAx>
        <c:axId val="9514016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092543"/>
        <c:crosses val="autoZero"/>
        <c:auto val="1"/>
        <c:lblAlgn val="ctr"/>
        <c:lblOffset val="100"/>
        <c:noMultiLvlLbl val="0"/>
      </c:catAx>
      <c:valAx>
        <c:axId val="5309254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14016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DF5B2-5A77-4E73-B4E1-CF427F123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00489-4614-453A-9DC0-F3B9E0CFE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B5F85-710E-4D8C-B01D-13372FD85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9607E-95E6-4138-8CC0-9221A1BEB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3C99A-4DE2-4E60-9424-641197CB1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95B29-7F55-450E-94EA-E17488F3D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52676-B82F-4382-80FB-48FD4D2B5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E3E84-02E1-4B94-B03E-569BA24D2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0BACE-4D06-4280-8053-E5D2A15BF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B0E95-C20B-4DA1-83C6-F09C28196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01DE7-B47D-4364-B04F-F1AE241EE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E09AA-B746-40CB-BC22-D240B940B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33809F-A71B-478F-A8D0-5B47A8E9281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