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05039"/>
        <c:axId val="43274359"/>
      </c:barChart>
      <c:catAx>
        <c:axId val="29805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74359"/>
        <c:crosses val="autoZero"/>
        <c:auto val="1"/>
        <c:lblAlgn val="ctr"/>
        <c:lblOffset val="100"/>
        <c:noMultiLvlLbl val="0"/>
      </c:catAx>
      <c:valAx>
        <c:axId val="43274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05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683-44AF-410A-83BC-A840E0E5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D14-D3B5-4034-ACBF-4D00716E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71E-9488-47CC-80CE-2DD499CD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12D-6E18-4502-A1D2-C9CD37C7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B65-C115-4517-AA35-BE1A5B28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F35-7FBD-4BA8-BEAC-8ED5223B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990-53C8-4704-801E-FA5A7E89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87F-2120-490A-9C49-FA62E26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FD8-2B3C-462B-9097-8DECD712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1B6-7F6F-4470-BA3B-D73B994D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42C-1E83-4704-B014-8243B039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0A1-92FE-4F13-8B7C-B6ABBF74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C19BB-47D2-40B9-BBE8-2471EF538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